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6523-D889-4EA7-9483-EDE620AA4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1595-79FB-46EA-8FC5-DED64CF9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1C1D-152C-42D4-BE6D-574BD4C26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4719-50ED-4636-A2ED-1196C24D0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CB82-5DCE-46A7-B9D8-01E2394F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3C5A-2AF4-43D8-B469-45D35B52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2432-FE1E-4D27-B8B2-A7A96B5E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AC01-B444-485A-A216-15FD6D02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99B3-0F33-4C50-881C-52B3FB6E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9E15-B92B-401A-B916-759CB49D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B82E-4C71-424D-AB89-374585A7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8AA8-D017-4C97-B013-5D118966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E1DF-01A3-4FA1-9155-C03E6FD33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/C++ Tu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 2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 Flow &amp; Poin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onio Maior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bruary 11,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-While Loop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a = 1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"%d\n", a); // Print value of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-a; // Decrement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while (a &gt; 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Lo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word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&lt;initialization list&gt;; &lt;condition&gt;; &lt;post-loop list&gt;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initialization list&gt; happens first and only 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condition&gt; test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ke while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post-loop list&gt; always executed after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Loop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a = 10; a &gt; 0; --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"%d\n", a); // Print value of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 are labeled blocks of code that can be called from an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an return a value (opt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an take parameters (opt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wor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used to specify no va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on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cla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ynta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return_type&gt; &lt;function_name&gt;(&lt;parameter_declarations&gt;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ynta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function_name&gt;(&lt;arguments&gt;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Function decla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Add(int a, int 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a+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Main entry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Function call with arguments 3 and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c = Add(3, 4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s by value or 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o functions can be pas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a copy of the argument is passe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fere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ddress of argument is passe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s on how parameter list is declared in function decl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 and Referenc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Foo(int value, int&amp; re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 = 1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f = 2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a = 1, b =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o(a, b); // Function c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“a = %d, b = %d\n”, a, b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209320" y="3352680"/>
            <a:ext cx="4058280" cy="459720"/>
            <a:chOff x="2209320" y="3352680"/>
            <a:chExt cx="4058280" cy="459720"/>
          </a:xfrm>
        </p:grpSpPr>
        <p:sp>
          <p:nvSpPr>
            <p:cNvPr id="82" name=""/>
            <p:cNvSpPr/>
            <p:nvPr/>
          </p:nvSpPr>
          <p:spPr>
            <a:xfrm flipH="1">
              <a:off x="2209320" y="358128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30400" y="3352680"/>
              <a:ext cx="15372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 return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285640" y="1676520"/>
            <a:ext cx="3761280" cy="609480"/>
            <a:chOff x="2285640" y="1676520"/>
            <a:chExt cx="3761280" cy="609480"/>
          </a:xfrm>
        </p:grpSpPr>
        <p:sp>
          <p:nvSpPr>
            <p:cNvPr id="85" name=""/>
            <p:cNvSpPr/>
            <p:nvPr/>
          </p:nvSpPr>
          <p:spPr>
            <a:xfrm>
              <a:off x="4732200" y="1676520"/>
              <a:ext cx="13147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y val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2285640" y="1905120"/>
              <a:ext cx="2438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3733560" y="2590920"/>
            <a:ext cx="4381200" cy="535680"/>
            <a:chOff x="3733560" y="2590920"/>
            <a:chExt cx="4381200" cy="535680"/>
          </a:xfrm>
        </p:grpSpPr>
        <p:sp>
          <p:nvSpPr>
            <p:cNvPr id="88" name=""/>
            <p:cNvSpPr/>
            <p:nvPr/>
          </p:nvSpPr>
          <p:spPr>
            <a:xfrm>
              <a:off x="4730760" y="2666880"/>
              <a:ext cx="33840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y reference (only C+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3733560" y="2590920"/>
              <a:ext cx="990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ing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/C++, a condition can be anything that evaluates to a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a=0, b=2, c=5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a) // Will be fa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b) // Will be tr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b = a) // Will be fa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a = b + c * (4 * a)) // Will be tr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ers! Ahhhh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ers are variables that contain the address of another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tion syntax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ype&gt;* &lt;variable_name&gt;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pera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: address-of operator (refer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: value-at-address operator (derefer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Bl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at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nd with a semi-colon ‘;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de blo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either a single statement, or multiple statements delimited by ‘{’ and ‘}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for NO statement, called a no-op, use ‘{’ and ‘}’ with nothing in betw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a;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Declare a regular inte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* pInteger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Declare a pointer to an inte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= 10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Set ‘a’ to contain value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Integer = &amp;a; // Set pointer to contain address of ‘a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== *pInteger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Tr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amp;a == pInteg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Tr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(&amp;pInteger) == pInteger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Tr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*pInteger) = 5;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Will change value of a to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83560" y="3276720"/>
            <a:ext cx="519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17640" y="3276720"/>
            <a:ext cx="84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02560" y="42670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8184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59600" y="38098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64880" y="42670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886200" y="4038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77960" y="33526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80120" y="3809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79040" y="42670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ers &amp; Arr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/C++, pointers and arrays are very simi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ys are pointers to a fixed memory b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like arrays, pointers can use the [] operator to reference an off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ers &amp; Array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 arr[] = "Hello!"; // Declare a char array (null-terminat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* pArr = arr; // Pointer to char – same as array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f("arr = %s\n", ar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rr[0] = 'F'; // Use [] operator with poi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f("arr = %s\n", ar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pArr = arr; *pArr != '\0'; ++pArr) // Very funky code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pArr = (*pArr) + 1; // Increment ASCII value by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f("arr = %s\n", ar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ing the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re going to look at the following constructs that change the flow of your co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word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&lt;condition&gt;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 if (&lt;condition&gt;) // Optional, as many as you w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 if (&lt;condition&gt;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Also optional, can have just 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condition must be within parentheses ‘(‘ and ‘)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nsigned int a = 1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a &lt;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“a is between 0 and 4”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 if (a &lt; 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“a is between 5 and 9”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“a is greater than 10”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a &lt; 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“ and is less than 2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657240" y="2438280"/>
            <a:ext cx="4701960" cy="459720"/>
            <a:chOff x="3657240" y="2438280"/>
            <a:chExt cx="4701960" cy="459720"/>
          </a:xfrm>
        </p:grpSpPr>
        <p:sp>
          <p:nvSpPr>
            <p:cNvPr id="52" name=""/>
            <p:cNvSpPr/>
            <p:nvPr/>
          </p:nvSpPr>
          <p:spPr>
            <a:xfrm flipH="1">
              <a:off x="3657240" y="266688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177600" y="2438280"/>
              <a:ext cx="2181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e stat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324480" y="4419720"/>
            <a:ext cx="2059560" cy="1218960"/>
            <a:chOff x="6324480" y="4419720"/>
            <a:chExt cx="2059560" cy="1218960"/>
          </a:xfrm>
        </p:grpSpPr>
        <p:sp>
          <p:nvSpPr>
            <p:cNvPr id="55" name=""/>
            <p:cNvSpPr/>
            <p:nvPr/>
          </p:nvSpPr>
          <p:spPr>
            <a:xfrm>
              <a:off x="6711480" y="4648320"/>
              <a:ext cx="167256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ultip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at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24480" y="4419720"/>
              <a:ext cx="304920" cy="121896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/C++, there are 3 types of loo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-While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ne to use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su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matter of p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le Lo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word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&lt;condition&gt;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tion test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if it’s true, code block is executed. This repeats until the condition is fa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le Loop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a = 1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a &gt;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a &gt;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“a is greater than 5!”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“a is less than or equal to 5!”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-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-While Lo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word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&lt;condition&gt;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 is executed at least once; condition test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repeats until the condition is fa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1T21:06:25Z</dcterms:created>
  <dc:creator>Antonio Maiorano</dc:creator>
  <dc:description/>
  <dc:language>en-US</dc:language>
  <cp:lastModifiedBy>Tony</cp:lastModifiedBy>
  <dcterms:modified xsi:type="dcterms:W3CDTF">2003-08-23T18:08:16Z</dcterms:modified>
  <cp:revision>47</cp:revision>
  <dc:subject/>
  <dc:title>C/C++ Tutorial</dc:title>
</cp:coreProperties>
</file>